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EE2C-CD07-40C8-AE0C-00398D6B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496A-8381-49B5-8EAB-988D3139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3BF5-5F90-494E-AC53-AF05646F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B904-962E-4C7F-910A-5DE87E6B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0524-FBD1-4CBF-943D-06CB37E0B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1337-7B2B-44CA-9BFD-60BD5C19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127B-25CC-4FBB-BC22-524423B6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2AA0-C9EA-498D-97BE-DDEA4543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391A-9801-4BE8-A074-90962C2F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8E79-6A77-4AFE-8D8A-BD9121E4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CF06-81A0-4868-AAAF-A7582E0F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C376-E772-4AB3-B0A9-F4D4265A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0B78-635D-4B67-9B01-6C3B0715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AB08-05EC-444B-8E1F-A6748AAF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35C0-C0C4-46F0-B97E-470FCB09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2AEA-A05D-4CEB-BDA2-F7550F80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1ECD-5627-42E9-AA95-9251A302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F77A-BC06-4655-823A-2BF690F8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1593-D718-4382-A9D9-EA45480A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848E-D6C9-46B2-A5E8-85D5ECBD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1036-16E0-4476-B4DC-C85738B9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D2E7-427C-4AEF-99B0-85F1B22A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AD4B-BDB1-4569-9E86-5C8D17A8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18CE-DEAE-4F5B-8FB8-EFA8FE8F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8FA0-1F6C-46A5-8F7A-7F8F40AF7E80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85D1-3C01-41F3-A8C5-77E3D96273F4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hhubertova@vati.hu" TargetMode="External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Front Office Pályázati Modu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lcím 2"/>
          <p:cNvSpPr/>
          <p:nvPr/>
        </p:nvSpPr>
        <p:spPr>
          <a:xfrm>
            <a:off x="1547640" y="5300640"/>
            <a:ext cx="6400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(k</a:t>
            </a:r>
            <a:r>
              <a:rPr b="0" lang="hu-HU" sz="2400" spc="-1" strike="noStrike">
                <a:solidFill>
                  <a:srgbClr val="898989"/>
                </a:solidFill>
                <a:latin typeface="Calibri"/>
              </a:rPr>
              <a:t>észítette: Holop Szilveszter, JTS</a:t>
            </a: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6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30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ubertova Henri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Financial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hubertova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9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1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ubertovahenrieta</cp:lastModifiedBy>
  <dcterms:modified xsi:type="dcterms:W3CDTF">2011-01-26T15:42:19Z</dcterms:modified>
  <cp:revision>32</cp:revision>
  <dc:subject/>
  <dc:title>1. dia</dc:title>
</cp:coreProperties>
</file>